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2ED-8ED0-47DF-BC38-9CBD4FE7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08E0-BF59-463C-AC62-8C2E82C1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EE13-2A69-4FE9-8C28-3F3DAE94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73CF-ECF9-4678-A940-8D80A9C5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3374-29FA-4D9A-97AF-07729ACC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E37E-F0CE-41C2-9455-8A2E7002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487E-B9C4-4D65-8CD7-228049FA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1F77-3589-4CCB-9280-3D062AE7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577A-A030-4C66-ADF1-0B9520EC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AF1B-7FF6-4448-9720-0E9BD590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BC34-853B-4FB8-8B90-7674B530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7E6-4B5B-429A-AD54-2A182409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03EE-4CE6-4659-83A8-80C805F9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C9BB-40DC-4FFA-B972-4054001A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A713-4DD2-47E1-816E-D8680B59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0070-CE60-4DE6-BD50-D40206BE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5246-EA69-4CBF-828D-ED162BDD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7594-711D-42E9-9E11-2389CBEB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0C0-B691-4D32-8CC5-7E83AC96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7BF-2D26-4F2F-A1D7-896F2F6F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8946-2348-4672-B4E0-9F330B10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1D34-0B64-4F78-A7CB-1032F237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818-F184-4273-B713-F68D5545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AF9A-CD50-4921-9308-05504D6B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0B0A-4089-408F-9E2A-48F9787992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D995-CC3E-4E80-B6C9-3678F75CB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79280" y="189000"/>
            <a:ext cx="54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DC Sistemas - Modulo Contabili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56000" y="1079640"/>
            <a:ext cx="8636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7-05-23T16:50:10Z</dcterms:modified>
  <cp:revision>8</cp:revision>
  <dc:subject/>
  <dc:title>Diapositiva 1</dc:title>
</cp:coreProperties>
</file>