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242A-1CBF-42ED-9803-A9E9BC72B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2DF3-5778-4CA3-B7DB-F2D4863A6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B51B-155E-4A99-ACAB-8C0F7885F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4BB7-7B7E-43BB-8E21-595811CF0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D3475-816B-401C-8CE5-8A7EAF7AC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76DED-7348-4E86-BDAC-787E90A12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94F08-05E2-41DE-B2A2-3D240DA29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9B6E5-18C4-4112-A938-D191CAE55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9A507-C11A-4342-9088-3DF15FBC1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A196D-CC1C-4307-ABC9-A716142B3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3481E-2691-42D7-A560-96DE2F26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B6F5-DB94-478F-8402-9886E3AED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2FF9E-E5EC-4FD6-AF0A-40182BD4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702B8-1D06-4CD5-B462-24F7950C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4532D-AE43-4FDF-8FBA-0023C3DD7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5DD21-4D0A-4603-B7F3-82FADC474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550FC-A318-45DE-8968-38E82C261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85BE-0833-462E-9197-2599D9F0A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D22B-009D-405A-A3B0-D242C93A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FD6A-2888-4416-81E2-F0573A80E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CE0E-BC9F-4616-8250-ECDDD0ECA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48DA-9691-4577-B7BB-4A641002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8480-C1DA-4A96-8F2D-D41EA6EB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4632-938A-4839-9AE6-862F8DA8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90EE8-FE7A-44EB-A329-C4BB38F5F4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4FDC5-8073-4BF1-9531-E98B0CCA7A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603440" y="2997360"/>
            <a:ext cx="6983280" cy="83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SISTCO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13:49:23Z</dcterms:created>
  <dc:creator>cgiovanny</dc:creator>
  <dc:description/>
  <dc:language>en-US</dc:language>
  <cp:lastModifiedBy>cgiovanny</cp:lastModifiedBy>
  <dcterms:modified xsi:type="dcterms:W3CDTF">2006-10-17T13:50:39Z</dcterms:modified>
  <cp:revision>1</cp:revision>
  <dc:subject/>
  <dc:title>Diapositiva 1</dc:title>
</cp:coreProperties>
</file>