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AB84-C3CE-49FE-BF09-0F2217F05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FE9E-677E-418E-949F-9A5B84AA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4935-2114-4827-9FCB-6D70DE34A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6D02-09BE-47B9-A0D3-9B8A8F63A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FB00-87E7-468B-8469-6AC499477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8EEE-4A13-4177-A633-C122F218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3FAF-0E10-4BB0-A229-4FADF008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0C2C-4F6A-4659-ADC0-31193264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3133-0B5C-4944-85CA-42AA519F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C67D-82CE-421D-A681-69C8DBCD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FBDA-6B18-4A34-80DE-74B854D7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FC1E-AB76-42B4-AD6F-3067BD0D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4B78-3348-4969-B467-4694C782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869F-7243-4D11-924F-B0A68E95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ACE7-58F4-4369-88A2-548430C0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78A4-D0A1-48E1-B603-B4B13FF0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91A2-A301-4C8D-A1CB-02AE0FD10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4019-AB3D-4DF9-9170-A6E59610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961C-AE01-427A-AF7D-DC4CB527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66EE-FFBA-4F12-AF6D-88FFA8C0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0B81-7643-4F6B-89ED-F04AA462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7D2C-3E89-40E5-9074-6641E1A3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A49B-7742-4053-AF07-169868AA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2268-5178-43DC-9F39-E1CC4686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B0DF-AEEC-4FF0-88F9-2332CBE435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D5AD-5C8E-4AFD-85B5-8B3C9DBD56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79280" y="189000"/>
            <a:ext cx="547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DC Sistemas - Modulo Contabilida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556000" y="1079640"/>
            <a:ext cx="8636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3:49:23Z</dcterms:created>
  <dc:creator>cgiovanny</dc:creator>
  <dc:description/>
  <dc:language>en-US</dc:language>
  <cp:lastModifiedBy>cgiovanny</cp:lastModifiedBy>
  <dcterms:modified xsi:type="dcterms:W3CDTF">2007-05-23T16:50:10Z</dcterms:modified>
  <cp:revision>8</cp:revision>
  <dc:subject/>
  <dc:title>Diapositiva 1</dc:title>
</cp:coreProperties>
</file>