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6507-047E-4B4E-906E-4F844D6C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B995-7356-44A4-93D2-8775E669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BCA-3F5B-4941-8135-B890BDC6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721-C8AA-4C80-BA06-3E30B943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5D1-2A90-4BF6-B3F7-D4089D2E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96C-C114-41E9-B0FC-712847C5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956-50A5-4DE3-9DFB-87AC42C1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8CA-42D2-4187-B205-57F3CEEF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799-D83A-496E-8EBA-FC60016D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1BB-2501-43D4-A5B9-6356509B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D62A-1C7E-4D53-9D8B-CE2E3F67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2BE-3882-44C0-98A6-28FB572E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ADE3-79CE-492A-9D38-225A3D633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38400" y="2525760"/>
            <a:ext cx="8424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EMA CON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4920" y="3529080"/>
            <a:ext cx="2879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NI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9:54:43Z</dcterms:created>
  <dc:creator>cgiovanny</dc:creator>
  <dc:description/>
  <dc:language>en-US</dc:language>
  <cp:lastModifiedBy>cgiovanny</cp:lastModifiedBy>
  <dcterms:modified xsi:type="dcterms:W3CDTF">2006-09-14T14:24:54Z</dcterms:modified>
  <cp:revision>3</cp:revision>
  <dc:subject/>
  <dc:title>Diapositiva 1</dc:title>
</cp:coreProperties>
</file>