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B7AB-A82C-471D-A8A3-39238E6F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631-207A-4C78-AB93-FE3BD7CB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0444-1EE2-4DAB-A146-9524E1E9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720-9247-4B2C-B761-03B7E85C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838A-29F9-4437-808F-2B8811E8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71DB-3A0E-4152-A4C2-AE9F2729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28CD-5CF6-40F2-B2BA-91E7A5CD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638B-2928-4D42-962D-08193982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D244-E9CA-41A8-A08E-D1343A4B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724F-856F-4BB0-A0DD-FF7B56FB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53BF-ECAD-4F4E-A027-2E5F38C5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D56D-F2E0-4BE8-BA5F-8339D1B6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A5E4-7227-45D0-995E-455B40BD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E597-2966-4E56-A5B8-412EE0D7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E480-4558-46C2-994C-293EEFC5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C424-F7E6-4251-ACC7-4DA51272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98B4-B6D6-443E-A91C-2511C7C3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1FB-3451-45CD-B056-9D190B31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E658-C96D-49C8-B905-76D45AF0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BCE-C524-4734-AF6A-244726F3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E51E-BFF7-44B8-A62C-45DDB7DA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CF32-7D6D-4D78-9E34-D85CAC7A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EBF-2753-4B95-AB8A-FC6DF487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707A-E79D-4542-B44A-EB3739A4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175A-386D-417B-96A4-EEFD397C99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3959-7F63-4844-A4D5-66EF3BB45E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79280" y="189000"/>
            <a:ext cx="54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DC Sistemas - Modulo Contabili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56000" y="1079640"/>
            <a:ext cx="8636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7-05-23T16:50:10Z</dcterms:modified>
  <cp:revision>8</cp:revision>
  <dc:subject/>
  <dc:title>Diapositiva 1</dc:title>
</cp:coreProperties>
</file>