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7E87-421A-4849-8346-94B8CD1B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FB89-7354-492A-83E6-C8484ABD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916E-ECF7-4DB0-A946-4EABB073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5C87-6122-4A60-A936-74AEAACB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CCE3-81D2-4095-B2A4-2C353865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E1BC-55C3-4CB6-BAF9-776668C5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69CE-B75C-49A4-9A6D-54965734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0820-7A72-4389-BDAC-963E947F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8251-5BA2-412C-818C-2BF9FAC5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E7A5-3C1E-406A-BAAD-84037C70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D117-EF73-46AF-9C6D-98FBBABE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909A-F5AB-49A2-B425-B41826FF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8E68-182E-4B2F-AF23-51318018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3DA4-50B0-4E65-AA88-7A30E022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4F6C-FA1A-44C3-9291-27EF0C1A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D952-E33A-41B2-8739-31320EFE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8056-2A05-466A-BE46-29DCB6EF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7B0E-15BA-4D06-814E-BBD38584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68ED-3D1B-49CB-B741-670A5A3F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BF72-9AB8-4252-AA95-F1D4BC20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BEA1-CC4F-43D2-B24C-F6F77335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560E-602A-4A9D-84F2-76FCFECE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EBB5-B99F-43C8-9A02-5DAB9F2D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4FD4-EC35-4C1D-8D30-5BD73244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DC53-2059-472A-AC92-E040CB3C9F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D8C3-37C4-4A6A-9FC4-AE7D028790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03440" y="2997360"/>
            <a:ext cx="698328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ISTCO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23Z</dcterms:created>
  <dc:creator>cgiovanny</dc:creator>
  <dc:description/>
  <dc:language>en-US</dc:language>
  <cp:lastModifiedBy>cgiovanny</cp:lastModifiedBy>
  <dcterms:modified xsi:type="dcterms:W3CDTF">2006-10-17T13:50:39Z</dcterms:modified>
  <cp:revision>1</cp:revision>
  <dc:subject/>
  <dc:title>Diapositiva 1</dc:title>
</cp:coreProperties>
</file>