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6FE1-6741-433A-AA38-DDF10605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EEEF-94A5-467C-8133-2A66CE30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2CAC-450E-4B5E-ADC2-F5EA9C56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0388-1865-46D0-9E20-FB24C5C6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41E5-56ED-48E2-AE69-E38CE1EE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E11E-0F7B-44F6-AD66-3369FE77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5A05-3918-4187-9A6D-DD0C3387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2EF3-FD78-4375-AB3F-5F0F7EEB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07BB-3958-4D70-8087-3E8FA1E7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238-1C0A-456A-B139-016DEBDB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1C1F-6DC1-4E7A-9B98-5F3C2D88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2598-E61E-4C8B-81F1-46599F42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E0C4-E876-4863-AF1C-1AF5A70D4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38400" y="2525760"/>
            <a:ext cx="84247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EMA CONT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74920" y="3529080"/>
            <a:ext cx="287964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FENI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9:54:43Z</dcterms:created>
  <dc:creator>cgiovanny</dc:creator>
  <dc:description/>
  <dc:language>en-US</dc:language>
  <cp:lastModifiedBy>cgiovanny</cp:lastModifiedBy>
  <dcterms:modified xsi:type="dcterms:W3CDTF">2006-09-14T14:24:54Z</dcterms:modified>
  <cp:revision>3</cp:revision>
  <dc:subject/>
  <dc:title>Diapositiva 1</dc:title>
</cp:coreProperties>
</file>